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F3A6-B0D9-4500-AEC3-D39AC16306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5766-02B8-453C-93D4-D81FBECCF196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889F-08A8-489C-8601-92AF8A24F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EFC7-46CA-4829-B9DE-219642A01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492AA-165B-4AC1-85C7-E15B7ABC6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3FFCE-3AA4-43A4-A4AD-F5450434E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DED1C-E04B-4178-8269-8C580AD7F0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67CB7-59D0-4887-A848-EC3B64DBAD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329F9-9BD7-46B3-8062-3427136F1E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85324-E5FD-4C33-AB9C-4554F81827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19B4F-0A48-443B-9D5E-D3D7D61413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6DC9A-D1D8-464C-AA4B-470B52A224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B5355-227C-4BC7-AD41-BAB8103B2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8C3E-2FEF-4B89-90AE-F987110D6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8F67E-6A79-4558-9981-78384C3223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262D5-1592-410C-ACA5-6CB89579D6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B4F93-0214-4F9E-81B5-8AA26F5E6F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0C746-205A-42AF-B6D9-790ECAB691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CAF35-E56A-4622-93D0-5F30619901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0F9E-3056-470C-8C2E-6066C2F89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DC6DC-DB8B-4AC6-8BC0-F21F7C798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D61F-DBEC-49DE-BE9A-19EB3BDF0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A0F1-1976-480E-B3AC-923C12396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2D04-09E7-4A8B-8662-91D4FBC41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FE9F-7218-4962-B651-CA60DBC78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9153-9EE9-431D-9F00-D1823D457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2051646-7E4D-47CF-81D0-843D594AEB7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7F6E8A6-E77F-4282-8C9E-D603051F3A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DAA30CA-F75F-46AC-BF44-AD5FA05202A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85EA7A2-5737-43B3-88B1-145F9A0F670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1-09-29T12:02:39Z</dcterms:modified>
  <cp:revision>354</cp:revision>
  <dc:subject/>
  <dc:title>Exploratory Data Analysis</dc:title>
</cp:coreProperties>
</file>